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661-4735-4D12-93E1-29AD582C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CFB-5C78-480D-B4AB-B3ED671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0AE-A966-4305-BC3D-1DC429E7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5D7-6C8D-4BE6-A856-769C8469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928D-8DDA-4C7C-A34B-61C2CB02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E4DD-4405-4070-AB29-BB866EC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0E37-2E91-4A58-9FAE-2CE391E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0C51-D5E1-45ED-928D-27BEFBE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6967-2A28-44F1-8E07-CC58E26C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BA38-7D62-4D9B-ADAF-4C74D5D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9C3-7702-4F42-ABCF-9ACFACD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AB5-1B5D-48C2-A1B8-1E1E3335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5C77-A830-408B-A785-0DB8348A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AD65-E6FA-4E04-9656-CD0535A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6204-5762-44C7-A99A-3406848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BDC1-5C13-4D42-BBD4-11E89F82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77A-DAB7-4F03-B95D-2E0D863C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6E1-BE73-4CC6-A7C6-7B3B443C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5C3-9C15-429B-BAAE-F210B13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D96-0335-4732-A4AE-EC9DD96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135-2532-4BF6-96B5-C482EE2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792-3B5E-4066-AE6C-DB556E8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ED6-12D9-4DAE-B508-525DF71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773-020D-4ED0-86F2-89A40C5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5AB-F0BC-45EB-AF1D-36806D980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479-3254-465E-8204-89E026901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e320c"/>
                </a:solidFill>
                <a:latin typeface="Times New Roman"/>
              </a:rPr>
              <a:t>МЕМСТ 27186-86. Дайындалатын және жеткізілетін астық. Терминдер мен анықтамалар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біріктірілген сына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нүктелік сынама жиынтығынан құралатын астық сынамас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орташа тәуліктік сына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әулік ішінде бір шаруашылықтан түскен астық сапасы бойынша бірнеше біртекті партиядан алынған біріктірілген сынамалардан қалыптасатын астық сынамас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орташа сына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 сапасын анықтау үшін біріктірілген немесе орташа тәуліктік сынамадан бөлінген бөлі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шөкім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 сапасының жеке көрсеткіштерін анықтау үшін орташа сынамадан бөлінген бөлік. 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негізгі дақылдың толық құңды емес қоспалары және қабылдау кезінде жіберілетін басқа да өсімдік дақылдарының дәндер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шөпшар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ақсаты бойынша астықты қолдану кезінде жоюға жататын орнаникалық және неорганикалық қоспалар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минералдық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құм, топырақ  түйіндері және т.б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органикалық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амыр бөліктері, масақтар және т.б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зиянды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дам денсаулығына зиянды қоспалар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металмагниттік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агнитке тартылу қасиетіне ие қоспалар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қиын бөлінетін қос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физикалық белгілері бойынша негізгі дақылға ұқсас және астық тазарту машиналарында бөлу қиын қоспалар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Зақымданға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- өзінен-өзі қызу, кептіру және аурулармен зақымдану нәтижесінде қабықша түсі және эндспермі өзгерген дән.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Бұзылға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қабықша түсі өзгерген және эндоспермі бұзылға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Солғы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дамы мен пісудің қолайсыз шарттары салдарынан бүріскен, жеңіл, деформацияланға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Соғылға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еханикалық әсер нәтижесінде қалыптасқан дән бөлігі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Қысылға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еханикалық әсер нәтижесінде жалпайған бүтін дән. 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Бозқырауға ұрынға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пісу кезеңінде суыққа ұрынған, бүріскен және түсі өзгерге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Түссізденге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дамудың, жинаудың және саөқтаудың қолайсыз шарттарының әсерінен әртүрлі дәрежеде өзінің табиғи жылтырлығы мен түсін жоғалтқан дән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Көктеген дән -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өсігі мен түбіршегі жамылғы шегінен шығып кеткен дән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Піспеге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олық пісуге жетпеген, жасыл реңді басқан кезде жеңіл деформацияланаты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Опыралатын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бастыру және басқа да механикалық әсерлер кезінде қабықшасы толығымен немесе жартылай жойылған дән. 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Қаштауышты (головня)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йдары немесе бетінің жартысы қаштауыш споралдарымен бүлінген дән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Фузариозды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пісу кезінде фузариум тұқымының саңырауқұлақтарымен зақымданған, солғын, жеңіл, әжісденген, кейбір кездері қызғылт сары түсті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Қызғылт реңді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ұрық аймағындағы қабықша қызғылттанған, жылтыр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ылғалдылығ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дән ұлпаларымен физико-химиялық және механикалық байланысқан су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натур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орнатылған астық көлемінің массас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қабыршақтылығ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пайызбен өрнектелген опырылмаған астық массасына қабықшалардың массалық үлес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қаштауышты иіс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-  астықтың қаштауыш спораларымен ластану нәтижесінде пайда болатн иіс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Зеңденген иіс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тың бетінде және ішінде зеңді саңырауқұлақтардың дамуы нәтижесінде пайда болатын иіс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жусан иіс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тың жусан себетшелерімен байланысу нәтижесінде пайда болатын иіс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Борсыған иіс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икроағзалардың белсеңді дамуы әсерінен астық ұлпаларының ыдырауы кезінде пайда болатын иіс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уытты иіс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тың көктеуі кезінде болаын иіс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бөгде иіс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тың саситын бөгде заттармен сорбция нәтижесінде пайда болатын иіс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түс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 бетінің бояу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зиянкестермен залалдану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 аралығы кеңістігінде немесе кейбір дәндердің ішінде астық қорларының тірі зиянкестерінің (дамудың кез келген кезеңіндегі жәндіктер немесе кенелер) болуы. 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йқын түрде астықтың зиянкестермен залалдану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 аралық кеңістікте  дамудың кез келген кезеңінде астық қорларының тірі зиянкестерінің болу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Жасырын түрде астықтың зиянкестермен залалдану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- кейбір дәндердің ішінде  дамудың кез келген кезеңінде астық қорларының тірі зиянкестерінің болу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Осы стандарт дайындалатын және жеткізілетін астыққа қатысты терминдер мен анықтамаларды орнатады. 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Осы стандартпен орнатылған терминдер стандарттау немесе осы іс-әрекеттің нәтижесін қолданатын әрекет аймағына кіретін барлық құжаттар мен әдебтеттерде қолдану үшін міндетті болып табылады. 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рбір түсінік үшін бір стандарттық термин орнатылған.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Стандартталған терминнің синоним-терминдерін қолдану жіберілмей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7172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Зиякестермен зақымданған астық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ұрықты, қабықшаны және эндоспермді толығымен немесе жартылай ішінен немесе сыртынан жәндіктермен немесе кенелермен желінге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Шынылы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олық құрылымды, толық тегіс, эндосперм кескінінің беті жылтыр және арнайы қоңдырғыда толығынмен жылтырайты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Ұнды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борпылдақ құрылымды арнайы құрылғыда жылтырамайтын дән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Жартылай шынылы дә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жндоспермінің құрылымы жартылай шынылы және жартылай ұнды дә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клейковин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суда бөрту кезінде байланыстыратын иілімді массаны қалыптастыруға қабілетті астықтың ақуызды заттарының кешен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клейковинасының са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клейковинаның физикалық қасиеттерінің (созылмалылығы, серпімділігі, иілімділігі) жиынтығ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күлділіг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берілген шарттарда белгілі бір температура кезінде уатылған дәнді жағу нәтижесінде алынатын минералды зарттардан тұратын күл массасының жағылатын зат массасына пайызбен өрнектелген ара қатынас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df2e0b"/>
                </a:solidFill>
                <a:latin typeface="Times New Roman"/>
              </a:rPr>
              <a:t>Астық</a:t>
            </a:r>
            <a:r>
              <a:rPr b="1" lang="kk-KZ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– тағамдық, малазықтық және техникалық мақсаттар үшін қолданылатын астық дақылдарының жеміс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Дайындалатын астық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емлекеттік дайындау жүйесі арқылы мемлекетпен сатып алынатын астық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Жеткізілетін астық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ағамдық, малазықтық және техникалық мақсаттар үшін мемлекеттік дайындау жүйесімен бағытталатын астық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Күшті бидай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генетикалық негізделген жоғары наубайханалық қасиетін және наубайханалық қасиеті жағынан әлсіз бидайды жақсарту қабілеттігін сипаттайтын бидайдың жеке сортының немесе сорттар қоспасының астығ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Құңды бидай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наубайханалық өңдіріс үшін генетикалық негізделген наубайханалық қасиетін таза күйінде немесе наубайханалық қасиеті</a:t>
            </a:r>
            <a:r>
              <a:rPr b="1" lang="kk-KZ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жағынан әлсіз бидай қоспасын сипаттайтын бидайдың жеке сортының немесе қоспасының астығ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кл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ағамдық және технологиялық қасиеттерін сипаттайтын астық сапасының кешенді көрсеткіш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Дәннің қаттылығ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ұсату үрдісінде бұзылуға қарсылық көрсету дәрежесін сипаттайтын және мақсатын анықтайтын астықтың құрылымды-механикалық қасиет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сап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мақсатына сәйкес оның белгілі бір тұтынушылықты қанағаттандыру жарамдылығына негізделген астық қасиеттерінің жиынтығы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қасиеттер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жинау, сақтау, өңдеу және тұтыну кезінде пайда болатын астықтың объективті ерекшелігі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сапасының көрсеткіш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оның апасының құрамына кіретін астық қасиеттерінің сипаттамас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сапа көрсеткішінің нор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нормативтік-техникалық құжаттармен орнатылған астық сапа көрсеткіштерінің сандық мәні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базистік нор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астықты қабылдау кезінде есеп айырысу жүргізілетін астық сапа көрсеткішінің нормасы. 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шектеулі нор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дайындалатын және жеткізілетін астық сапасына қойылатын шектеулі жіберілу талапын орнататын астық сапа көрсеткішінің нормасы.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типі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ехнологиялық, тағамдық және тауарлық қасиеттеріне байланысты тұрақты табиғи белгілері бойынша астықтың жіктеулік сипаттамасы. Астықтың табиғи белгілеріне жатады: ботаникалық түрі, түсі, формасы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тип тармағ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тип шегінде анықталатын және табиғи белгілерінің өзгеруін көрсететін асықтың жіктеулік сипаттамасы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партия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біруақытта қабылдауға, тиеуге немесе сақтауға арналған және сапа туралы бір ғана құжатпен рәсімделген сапасы бойынша біртенкті астық сан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 сына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сапаны анықтау үшін партиядан алынған астықтың белгілі бір саны.</a:t>
            </a:r>
            <a:br>
              <a:rPr sz="3200"/>
            </a:br>
            <a:r>
              <a:rPr b="1" lang="kk-KZ" sz="3200" spc="-1" strike="noStrike">
                <a:solidFill>
                  <a:srgbClr val="ee320c"/>
                </a:solidFill>
                <a:latin typeface="Times New Roman"/>
              </a:rPr>
              <a:t>Астықтың нүктелік сынамас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– бір орыннан, бірқабылдауда партиядан алынған астық сынамас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10T09:34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